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hdr"/>
          </p:nvPr>
        </p:nvSpPr>
        <p:spPr>
          <a:xfrm>
            <a:off x="468000" y="379440"/>
            <a:ext cx="43434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: Writing and Delivering th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9"/>
          </p:nvPr>
        </p:nvSpPr>
        <p:spPr>
          <a:xfrm>
            <a:off x="3498840" y="372960"/>
            <a:ext cx="303048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Img"/>
          </p:nvPr>
        </p:nvSpPr>
        <p:spPr>
          <a:xfrm>
            <a:off x="1144440" y="734760"/>
            <a:ext cx="4710240" cy="353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3396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ftr" idx="20"/>
          </p:nvPr>
        </p:nvSpPr>
        <p:spPr>
          <a:xfrm>
            <a:off x="468000" y="8427960"/>
            <a:ext cx="33224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 type="sldNum" idx="21"/>
          </p:nvPr>
        </p:nvSpPr>
        <p:spPr>
          <a:xfrm>
            <a:off x="3863880" y="8427960"/>
            <a:ext cx="26654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FF9B7A1C-0A6B-469E-A130-62ECD8FBD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68360" y="379440"/>
            <a:ext cx="4343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: Writing and Delivering th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468360" y="8427960"/>
            <a:ext cx="3322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63880" y="8427960"/>
            <a:ext cx="266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1CA2D269-B038-4B61-BE6D-1FAB2BA91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4440" y="735120"/>
            <a:ext cx="4710240" cy="35319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339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468360" y="379440"/>
            <a:ext cx="4343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: Writing and Delivering th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468360" y="8427960"/>
            <a:ext cx="3322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63880" y="8427960"/>
            <a:ext cx="266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EA9C1884-9C3E-4418-B2C9-DAC44B7A6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8080" y="735120"/>
            <a:ext cx="4784760" cy="3587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3396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the chapter, students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key contents of a complete lead dust clearance test re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ays to make the report easy to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 appropriately to questions that clients may ask upon receiving their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468360" y="379440"/>
            <a:ext cx="4343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: Writing and Delivering th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468360" y="8427960"/>
            <a:ext cx="3322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3863880" y="8427960"/>
            <a:ext cx="266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4ED7C4A4-2C70-41B0-81CC-11E5A6836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1560" y="735120"/>
            <a:ext cx="4709880" cy="3531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3396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he six elements of the Lead Dust Clearance Test Re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nk forms that can be used for the Cover Page, Summary of Sampling Results, and Visual Inspection Results are provided i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endix 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is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py of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novate Right: Important Lead Hazard Information for Families, Child Care Providers and Scho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amphlet is also included i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endix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4440" y="735120"/>
            <a:ext cx="4710240" cy="35319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3396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HUD has more extensive visual inspections requirements, than does the EPA rule, HUD requires more information regarding the details of a lead dust clearance test repor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4440" y="735120"/>
            <a:ext cx="4710240" cy="35319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3396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HUD has more extensive visual inspections requirements, than does the EPA rule, HUD requires more information regarding the details of a lead dust clearance test repor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68360" y="379440"/>
            <a:ext cx="4343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: Writing and Delivering th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468360" y="8427960"/>
            <a:ext cx="3322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863880" y="8427960"/>
            <a:ext cx="266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20151314-9CB5-44F7-91F6-CFF690E87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1560" y="735120"/>
            <a:ext cx="4709880" cy="35319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339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68360" y="379440"/>
            <a:ext cx="4343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: Writing and Delivering th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468360" y="8427960"/>
            <a:ext cx="3322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63880" y="8427960"/>
            <a:ext cx="266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8B2C990D-35C3-4400-A812-B19E90903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1560" y="735120"/>
            <a:ext cx="4709880" cy="35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339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47296D6E-A00A-4C6D-9216-34A924BBB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94A0E040-83F7-44C7-9D18-D10FD28E6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D017D064-8CA1-45F4-814B-A3DA27969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80338F90-D662-4FD5-960F-F7D632FAE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19E7DF84-60F2-4B3E-B865-BF330A745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521DBEF6-F5A9-4374-8B0B-A76DE8E3C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22799BF1-3D14-49A6-8331-8B21FEE14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C3FC61AF-FE45-42E1-9643-E0DF80D4A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B0DD566F-1E8E-4CCB-9136-293FDCB28A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hapter 5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riting the Repor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items that make up a complete lead dust clearance test report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report easy for the client to understand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tents of Report – EPA RRP 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Pag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Sampling Resul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Inspection Resul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ry Analytical Resul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ovate Right Pamphle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85716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ndix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tents of Report – HUD LSHR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of property and if multifamily, specific units and common areas affected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of clearance exa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, address and signature of person performing clearance including certification numbe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inspection resul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tents of Report – HUD LSHR (Cont.) </a:t>
            </a:r>
            <a:endParaRPr b="1" lang="en-US" sz="32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st sampling resul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nd address of each laboratory that analyzed sampl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nd completion dates of work perform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written description of methods used during work and specific, detailed locations where work occurr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il hazards are corrected, description of locatio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tivity: Writing the Repor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achment 5-A and 5-B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blank and completed Lead Dust Clearance repor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tems that make up a complete lead dust clearance test repor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ake a report easy for a client to understand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0T16:08:14Z</dcterms:created>
  <dc:creator>Amy Mortimer</dc:creator>
  <dc:description/>
  <dc:language>en-US</dc:language>
  <cp:lastModifiedBy>mhenshal</cp:lastModifiedBy>
  <cp:lastPrinted>2000-06-30T16:30:52Z</cp:lastPrinted>
  <dcterms:modified xsi:type="dcterms:W3CDTF">2009-04-13T14:59:43Z</dcterms:modified>
  <cp:revision>152</cp:revision>
  <dc:subject/>
  <dc:title>Module 2:  Planning Your 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x0020_Type">
    <vt:lpwstr/>
  </property>
  <property fmtid="{D5CDD505-2E9C-101B-9397-08002B2CF9AE}" pid="3" name="EPA_x0020_Subject">
    <vt:lpwstr/>
  </property>
  <property fmtid="{D5CDD505-2E9C-101B-9397-08002B2CF9AE}" pid="4" name="TaxCatchAll">
    <vt:lpwstr/>
  </property>
  <property fmtid="{D5CDD505-2E9C-101B-9397-08002B2CF9AE}" pid="5" name="TaxKeyword">
    <vt:lpwstr/>
  </property>
  <property fmtid="{D5CDD505-2E9C-101B-9397-08002B2CF9AE}" pid="6" name="TaxKeywordTaxHTField">
    <vt:lpwstr/>
  </property>
  <property fmtid="{D5CDD505-2E9C-101B-9397-08002B2CF9AE}" pid="7" name="e3f09c3df709400db2417a7161762d62">
    <vt:lpwstr/>
  </property>
  <property fmtid="{D5CDD505-2E9C-101B-9397-08002B2CF9AE}" pid="8" name="j747ac98061d40f0aa7bd47e1db5675d">
    <vt:lpwstr/>
  </property>
</Properties>
</file>